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B2C-D25D-40B7-B404-7B4335D7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1A2-8008-40D9-8B7F-1641B324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D2B-224C-4274-826E-C686E09F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9DF-E655-4CB0-A06E-B3DA136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64D-3822-486A-A870-4818FB22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72E-1092-4AB0-97C2-8FBBC5B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330-8784-4BF0-9F15-DC89629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323-F207-4EC7-A73A-CE328B4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1C7-56BF-4DAA-B428-BBB3EA6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F97-2083-4154-88A0-36E0A06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5C9-7E1C-4E6E-9F7A-132A290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91A-BE16-43B2-8EE9-0E14768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871-C46D-4738-B62C-DEA7C54A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con la nacionalidad correc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Tomas es de San Juan. Él e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Marisol es de Santiago de Cuba. Ella es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Los amigos de Luis son de Santiago de Chile. Ellos son 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és de las clases, ¿vas a ir a un café c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as a regresar a ca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as a comer un bocadil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as a tomar un refres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as a enviar o recibir correos electrón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Vas a hablar en tu móv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la Tarea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BOOK p. 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say the following in Span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some problems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al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ve a tip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etter does the wo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 in?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ll nouns that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what gender? _______________ However, the article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blemas aritmeti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refore, what gender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t is masculine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rregular noun because it end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it’s mascu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2= 4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 +6= 20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- 8= 22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- 4= 16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x 4= 16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x 3= 24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÷ 9= 3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÷ 4= 20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Tienes que estudi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Tienes que prestar atención cuando la profesora hab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ienes que leer y escribir mucho en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ienes que llevar uniforme a la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Tienes que recibir notas buen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ke up a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uchar un CD/ 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r por teléfono/ ver un programa impor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seis cursos/ sacar notas bu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lar/ escu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a la fiesta/ estudiar para un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320" y="122040"/>
            <a:ext cx="8991360" cy="65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caban de comer uste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cabas de hablar con tus abue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caban ustedes de tomar un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cabas de ver un programa de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caban tus amigos de navegar el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 p. 4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Guess the mean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tú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ac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tu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b.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nch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anchor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nch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so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fu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found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mel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Bac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ruj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ris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Mayonesa y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os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mustard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mo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6012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l teléfo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44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NLINE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ickPassCode: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sd4003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der “Grammar Practi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lete GRAMATICA SELF-CHECK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697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8:05:51Z</dcterms:created>
  <dc:creator>Helen Zumaeta</dc:creator>
  <dc:description/>
  <dc:language>en-US</dc:language>
  <cp:lastModifiedBy>Helen Zumaeta</cp:lastModifiedBy>
  <dcterms:modified xsi:type="dcterms:W3CDTF">2011-04-05T18:23:48Z</dcterms:modified>
  <cp:revision>2</cp:revision>
  <dc:subject/>
  <dc:title>Me llamo_________ Clase 8IM La fecha es el 5 de abril del 2011</dc:title>
</cp:coreProperties>
</file>